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5A4D-054D-4BCC-A1BE-DCC7895B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EED-4417-42FD-97CF-775D6B65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745-B65D-43A5-A3C8-6FB1CB35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3E58-FA11-4F29-87DA-0A7B5F85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ED91-CF81-4505-BA77-CB1EB3B9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934-876F-4524-8510-82F18E3C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7E71-7869-405D-BE12-5DEE6B3B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538-05C0-4B2F-B928-8CAC7B5F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A2C-01F5-4168-A06D-84DBCCA7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8EFE-15A1-4439-B28B-B802C3E8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E07-D4A6-4AEE-BFE2-D4722CF9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65BB-4D9D-43EC-BF00-DCC1DD12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68A6-72E9-45B2-AD9A-4942C7235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-ick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Word Famil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274320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c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s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c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E02928_" descr=""/>
          <p:cNvPicPr/>
          <p:nvPr/>
        </p:nvPicPr>
        <p:blipFill>
          <a:blip r:embed="rId1"/>
          <a:stretch/>
        </p:blipFill>
        <p:spPr>
          <a:xfrm>
            <a:off x="3733920" y="4114800"/>
            <a:ext cx="228096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00400" y="27432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c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p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c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N01121_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163368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124080" y="2743200"/>
            <a:ext cx="106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t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27432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c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6858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tr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c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SO02951_" descr=""/>
          <p:cNvPicPr/>
          <p:nvPr/>
        </p:nvPicPr>
        <p:blipFill>
          <a:blip r:embed="rId1"/>
          <a:stretch/>
        </p:blipFill>
        <p:spPr>
          <a:xfrm>
            <a:off x="3048120" y="4267080"/>
            <a:ext cx="274320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8120" y="274320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c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7621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l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c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E02756_" descr=""/>
          <p:cNvPicPr/>
          <p:nvPr/>
        </p:nvPicPr>
        <p:blipFill>
          <a:blip r:embed="rId1"/>
          <a:stretch/>
        </p:blipFill>
        <p:spPr>
          <a:xfrm>
            <a:off x="2971800" y="4114800"/>
            <a:ext cx="269892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81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27432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c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R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c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E02867_" descr=""/>
          <p:cNvPicPr/>
          <p:nvPr/>
        </p:nvPicPr>
        <p:blipFill>
          <a:blip r:embed="rId1"/>
          <a:stretch/>
        </p:blipFill>
        <p:spPr>
          <a:xfrm>
            <a:off x="3352680" y="4114800"/>
            <a:ext cx="147636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43200" y="281952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281952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c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8380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w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c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480" y="4038480"/>
            <a:ext cx="1295640" cy="2514600"/>
            <a:chOff x="2895480" y="4038480"/>
            <a:chExt cx="1295640" cy="2514600"/>
          </a:xfrm>
        </p:grpSpPr>
        <p:graphicFrame>
          <p:nvGraphicFramePr>
            <p:cNvPr id="66" name=""/>
            <p:cNvGraphicFramePr/>
            <p:nvPr/>
          </p:nvGraphicFramePr>
          <p:xfrm>
            <a:off x="3581280" y="4038480"/>
            <a:ext cx="581040" cy="76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81280" y="4038480"/>
                      <a:ext cx="58104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" name=""/>
            <p:cNvGrpSpPr/>
            <p:nvPr/>
          </p:nvGrpSpPr>
          <p:grpSpPr>
            <a:xfrm>
              <a:off x="2895480" y="4572000"/>
              <a:ext cx="1295640" cy="1981080"/>
              <a:chOff x="2895480" y="4572000"/>
              <a:chExt cx="1295640" cy="1981080"/>
            </a:xfrm>
          </p:grpSpPr>
          <p:sp>
            <p:nvSpPr>
              <p:cNvPr id="69" name=""/>
              <p:cNvSpPr/>
              <p:nvPr/>
            </p:nvSpPr>
            <p:spPr>
              <a:xfrm>
                <a:off x="3657600" y="4952880"/>
                <a:ext cx="533520" cy="16002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886200" y="4572000"/>
                <a:ext cx="0" cy="3808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895480" y="4572000"/>
                <a:ext cx="9144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3:28:54Z</dcterms:created>
  <dc:creator>Wake County Public Schools</dc:creator>
  <dc:description/>
  <dc:language>en-US</dc:language>
  <cp:lastModifiedBy>Wake County Public Schools</cp:lastModifiedBy>
  <dcterms:modified xsi:type="dcterms:W3CDTF">2005-06-14T05:31:06Z</dcterms:modified>
  <cp:revision>15</cp:revision>
  <dc:subject/>
  <dc:title>-ill Word Family</dc:title>
</cp:coreProperties>
</file>